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2D73-EF73-4B1D-AD35-B25DAC226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5217-29F4-45B7-B75D-83E6D6A98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71B97A-0AC5-4951-977F-51A7D7DDB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DA5C7C-5D44-41E6-80C5-4AAB43439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409007-491C-44A5-BCFA-0FD41BCD2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FF2696-5CBE-4DB9-A5F8-8FD0443D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826EFB-3C6C-4A9E-9DF2-101CCC2A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BD1A81-A6DA-47F6-9031-78CD71D1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DA2D55-D09E-460D-A287-1675F0C63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E385D3-3DBE-4FA1-844C-E64C6C512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08796E-A54F-445F-9FAF-2CF2BF278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4B18BF-AC32-4782-BA8B-449B9B0E7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52E6-9366-4A1F-96A4-61464F773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0D542B-B4F9-4E7D-8976-40695B7A0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82D25F-4E99-4C9C-A821-32F4E5F8D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B976B2-BBDB-4649-BF2C-5CE2681B0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FB8223-3640-482B-B29C-B261A6922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97BCE1-3372-470C-B93C-D1DBA91B1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971C88-423E-440A-AAE1-80618F211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90FD55-D48C-4602-9FC3-BB58B4B6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E6C3EF-135D-4562-9797-A99953EAF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8939A1-73F6-4712-B9E6-01FB44394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E3529C-D597-4CBC-871D-1504D0CD2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C45E-CCEE-42A6-A0E8-59091E446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E04A71-13D6-48B7-9564-A17E07685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6F16FF-41DC-4885-8171-13B308824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3A02E7-F600-43C3-95EF-BEFF726F0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FA0548-4285-41F7-BCAE-6BF766D86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B1C19D-9C5C-4E90-857C-0129AFD99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058C61-5607-4AF9-BD36-CAC52698A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751919-8276-496E-BC86-C9A0D2874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8A65E5-9ACF-4A50-8546-4DB97D6C2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1033CE-BDB7-432C-B1B6-8FF4BB8BE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5A3D38-86FB-4B1E-96AC-9810A886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AC6D9-40C8-4038-A489-2FCB7858B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07EC00-448C-434D-9B25-5373FFD68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1B1C6F-CBD2-4634-8C53-F34F73931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3B1D90-23DD-4EB2-864E-7674742B0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8FC59A-82D2-4D9A-A134-2CD41955C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94074E-4D95-466B-879C-6A0DD33D0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B0BA23-9E99-4D4D-A779-E9F37F794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8C2371-7DF2-46EA-9266-CAFEB8B75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13F62F-3548-4BA1-B7D3-3D64D7B05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A20673-9E26-4EBF-922C-AD99D210F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66D009-A87B-42B6-9344-B72F29ED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E2BA0-C265-46A3-B414-9D41F715F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3996E3-422E-48D5-86FA-A1FFE99D4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3B724D-2EAC-4821-BE70-D435C169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35ED88-0CC6-4EB6-B8CF-9ADC8D83D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4C5260-5484-4A1F-8CC1-0D493138F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35D404-04E6-454E-B8DA-2164D83BE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9B8571-FFA1-4118-A337-69A764EB7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7F79D0-D403-404A-A045-6D0B2C773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352C27-D0DE-4139-800A-C1D565448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AAD673-3FF6-4837-9D6A-33246302D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1EE6B7-2467-4F26-B3D1-DC1E54739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8EA44-D4FA-432B-9981-EDD3A3387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42B0A3-AA0F-4132-ADAE-949B2B3BC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AB2BA2-E2EC-4651-9174-70209B39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C6B1C4-CA05-4AF1-B609-C1679C16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24DD71-561F-4E10-85CA-AC8A5315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2E39DB-DC9C-4C36-BF90-14B3A6223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197DEE-AF66-450A-B3B3-9886EAEDC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DFF24D-B4D8-4E9A-96E1-1F887F3A0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804FC7-6003-4E64-841D-AD97F8B14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4AEC05-94D5-4E5B-AFD7-FCD33B778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BFBD89-D310-47A6-B551-BB359E22E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06175-6F5E-4DDE-AE18-7B67A7D9B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19FA43-A576-4E26-87EF-9F842DF25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92041E-EE71-486B-A8A3-A5FAC604B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8D9B73-5B13-4523-97D0-7C50F51F5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749813-A43C-4DCD-AD12-F3480450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E64B2D-57B5-468C-97BA-265E13C9F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A5E719-A56D-4630-94D8-AD800DC5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A1EFCF-4F37-470E-A5E8-3F0281B1E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EA1E90-2DE0-4DE7-8303-2D05AB4CE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2ADE08-CC21-4176-B433-42423BB48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D5E9D5-205E-4A57-8BD1-2EB159A3E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C0B25-5ECE-46DA-8207-CAFC43435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8C2283-0C33-4D17-90F4-CFAD08554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BD0FC5-9583-4A31-9440-3D9EFC110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53193A-57F5-495B-91BB-8B11D4517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163224-5AE4-4376-9EFC-EF81CED9A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906761-4BF4-4C97-B859-A8B34EA00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DA3738-8DEF-4C6A-9F36-F6D9E99EB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67963C-30A3-4A4A-A523-39003F3A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6B2F06-2E49-4994-AB50-631237D26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7BC449-1C1E-4196-9E16-78C1561AA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43F88B-1809-4680-AACB-DC1EB3CAF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65C02-97A8-4760-9091-E01E559B5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577AD7-A947-4659-9FC9-856DF7364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9538E2-4EE7-4164-8C63-B7283780B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392F26-67F8-42B9-B25F-FF0115E17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C4EF60-5304-44FF-B7E9-B28544DA7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8923F3-A620-4917-9FA9-8142733EC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EE12DA-1C5C-4F23-827A-6667A2248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942F71-DD93-4E32-815A-F0C27B64D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18189F-4615-4EDE-BBD6-B21A8DA3C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1AB704-BF7E-4C4B-87B0-177CA04E5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B30C66-0DF8-4BA1-9D10-E3B519D55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D03B4-6CAD-4066-A033-8D9D3A476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7DBA9D-998A-45F3-9C8E-D6F04D5C9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0B3A40-290C-40E0-B449-FA7E36C9D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148EDD-AB1F-46EF-87BE-7091B17D4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709949-574B-4242-910D-59DC4F30C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49D68C-3C77-4717-863F-C3C274DD3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8C84A3-2F12-4137-BFE1-44C965087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3D706A-2AAD-4CFE-B945-AD12EC608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A67C17-537A-4B29-A8AF-CB59EF167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D88313-6E27-470B-860B-CAAE5FC16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33CFB1-B0FC-4B87-B3F6-784B8709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CB55-7E9B-4984-AA26-345B924EA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E7B8C-1837-45EA-AF24-0B27F8E53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B5A7EC-D279-4FAD-88A8-BDD00B44C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33AAE5-CFEA-4BE6-A6C1-591F5A17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4EC873-9784-4F2C-8DE2-5EBF37B23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EABB40-77F7-414A-BB2C-6DF1C3B54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6A6D8C-3BA2-435D-9A33-6E2774320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53A7B9-DC63-4042-BAB4-2F35509AE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0B59A8-5AEC-4560-B44F-12997BABF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E19AD0-38B5-4F86-AD6D-82C04FB8E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C42B1D-29D9-43B8-90C4-F64599CD2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623B03-DA78-4948-B4AC-445E2E7E4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9EA7C-7085-4277-86D0-8EF50E413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8A4D5E-ED68-4565-BDB5-D08BFD629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01AF74-10BA-4036-99ED-1A01CCC90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D601D3-569B-4162-97BD-7EE0BBCD1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03991E-FEB1-4B0A-B432-9C0FDDC0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9AC352-4F3C-444D-B0E0-068AE79D7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D91720-A499-4E6C-846D-5DD9F90B3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6708AF-47C1-4D5F-8917-7D9ADF45A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3A9682-1EA6-45CB-8815-203B9E7B5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EFF705-B994-414C-91BA-712958DFA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63F596-D40E-45A4-82B7-878C2E970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BA0C6-1DF5-4B1C-A78A-88E177C56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0205B7-FF4C-411E-A0FE-89AE613F3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E455E7-3F2F-47C5-AC28-EDA258EF8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7CDECD-1179-4704-B2C4-D733EA6B2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1CB98C-A454-432B-9C00-C95E1217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74FE8D-842B-4A5D-A3BB-CB7DB60C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461F29-69CA-45D7-91BE-B757C70FD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F6160E-E913-4EF0-B151-9B2AE52D4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766705-EBED-451C-B6F7-3C8E0C0AD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CE3164-8DA3-459B-9E6E-C0D65E786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93ADB3-E49B-4C9A-B984-B36DD63B3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09B4F-52D1-4D6F-8F77-604D45768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4336A1-ED87-4F67-9422-0AE217CCD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7FB5EC-5B48-4196-A8F9-EDE3ADC4D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0914B6-46BA-4364-BE1A-9D26F3B57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C1A00A-B465-4A45-A769-0469A3EC1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9F2366-9F0B-4A90-8ED3-7975BCC7F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5FC6B6-5EDA-4CF0-8588-7D12B4AB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3C6BC8-E82D-42A0-A49A-9B4B6DF9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CBED7A-6D60-497A-A150-20CA35861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142B15-F5E5-4B00-ADE5-09A020ABE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85382D-A095-429C-A585-CE9ECBCFB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B4624-3E6F-4C30-BBDA-9D663B442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2A1D40-8CB4-4BC7-8153-A5C211CDD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D10B25-B12E-4606-80AC-939028A3E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697824-A55A-4D53-9CF5-349771778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E39BCA-FD05-40C7-9D29-9B7EA1F65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4CDDAF-0590-4C6E-A46A-9FC8B489F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C15AE8-69EA-4E42-8B98-187AF4D84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48D533-89A9-4177-9359-D7E7CB6B9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C08660-4AD5-454A-93E2-0A3D078D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27B7BD-8476-47B3-9ACD-7C0A89B9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8440D4-5359-473E-A877-9A8239931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4261F-72D1-4ABB-81A9-768A5B48B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0FA561-ACC4-4636-AEAB-57D9994FC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57DCE1-9A41-43B0-B219-49CAA3E78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76AE04-F649-42BA-808F-1796DE68B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3F7EB2E-51F9-4E72-BC8D-DD7F71738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4928683-A11C-4B8C-BEAA-B5758DCDF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E4B02D8-5C95-40C7-B7FF-77D6EE706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B3D1BA4-BC13-408E-BB58-FF904604A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A309B2B-9B7F-4CFA-84CE-B69C7A3DD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9AF7AF0-072C-4F57-A0EA-093DBA39F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D4CC64E-0F38-4873-8B93-5DBE9E033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9D83D-6078-4AA0-9A93-FD881B16B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9090B17-CBD4-4925-835E-126AC62D3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79DDED1-E360-431F-BAA3-1069721F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EC4FCD9-C6C7-49F8-9593-A6A9AF761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9C400CF-2980-4D88-83B9-C25A68D9E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847C897-8CDF-4468-A7A6-2032FC625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EC6E8EC-C6D1-4D18-984A-971051974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5B75528-23F3-43D9-A392-C0FE35D87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421C573-5E41-40CA-AB72-50AC0D529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22F971A-B7D1-4939-951E-8D5A72BA7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2A7659C-3969-4B80-A70E-5B2BCD14F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97CCC-0DD4-4AEE-8E1F-DC4B71AA4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14EEF8B-6F53-4B8A-92E8-8CFAA30BA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8CBF6D4-00F4-453C-A68D-EBC7C446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FEDD856-4EF8-4769-BE9C-139245613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CF3DF1F-B375-4FA7-B523-7C8E7F4A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20E34B9-6ED8-4CE0-B598-524C172DB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1FA1C09-187B-44C6-ABFF-3F8DA3294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BA6F0C0-93C6-4428-A5C4-4F4366E9A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520E1-45FC-48BB-A207-879820702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497BB-FABD-4128-885E-52E232646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6173-0AC3-4409-B9FE-D42875CEE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FD666-0DA1-47E6-B559-353842DE6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6D319-6CC8-4D2D-9320-961EF6CAF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BA8C8-4382-46FA-BE50-D9F6350EF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51C53-36F9-4DD6-A4B2-41DC0284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3FA7C-E26D-4A80-9522-FC3D7E571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1D2DA-59DB-4379-948B-0A012BD73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42E5A-D35E-41A9-BEEF-4852EE731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0BD1F-1C22-44D5-8A86-B801C4A50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F8DA2-0AD4-4725-BDF7-55B2C07D7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470B6-FC4C-4AED-A1A9-570FF7264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DFFF-E1E4-4FF6-AEB9-6E575546D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95556-059D-4DD6-B700-E6696C680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9D99C-3144-437B-9FBE-A46D4BB40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BE591-9E4C-4AFB-8F73-245D675C8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79A10-E22F-4216-B12C-0DD6293F7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B81C5-3DDD-4F38-800A-8C166803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865FB-C70B-440A-806F-DF1696B5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6388E-AF83-4179-A166-C4CBAFD38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0E894-C282-4AAF-8A22-9DE71C5D5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0953F-87E6-4A0B-BD4F-D57867CC1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3ADE67-6D75-479B-8045-5A2E4F856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5162-0608-44AC-96D1-508423221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11FA8-54CE-405E-B579-372738865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C7766-C438-491A-B489-9404BBD86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779C02-4CA8-4FBE-85A2-574EE660E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619EB-3E98-4831-BE95-E65E18348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91F0CC-4C1D-41F2-8A39-4C98F62D0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B100CF-1950-42E3-9C10-28D8B538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37885B-5621-40DC-B7D6-80B84F92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014509-12E4-4B80-B5E2-A3FF4D6F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A8CD9F-4D3E-4C3A-BD59-24BA2068A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BD4615-B3C5-4CCC-A74B-C89AF0D9E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7946-7476-4C3C-8B0A-05F07F34A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ADCBD0-C08B-4B7B-9413-86809DC15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522774-9A9F-4416-BA38-C78CD70D4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52EE37-49F0-4CA3-9343-2874AA03B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3AD564-61C0-44FF-98FA-BFF62315E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9AA979-F772-4706-AC66-43318BFF9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C4ACD9-B3EE-4B2D-AA95-E7EB78936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518525-4556-4D90-927A-FE00625EA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35761-F9E7-45FB-AB35-D5428C91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9E5DB0-E962-4D08-8344-3BD456222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967C63-2408-4E7E-A855-2D159219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822D-C0D4-4484-AB0A-0BF2193AC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52BB0D-D9F4-4072-A363-A74043774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8994DE-3DC4-4BD4-A230-A71D1714A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620621-7855-4E2B-A145-72BFB0375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07D788-F3FB-48AE-B845-9BFC1C568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3DEA49-5695-4A2F-AFAB-E9134EB4F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B72F2A-3DB9-4DC9-B0EB-8D0C7C056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3799A5-2F8C-4968-8111-15800FD18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6367C0-EC47-4CA4-BD07-0477A23A1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243C1B-187F-4502-9982-679A46515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49FF95-28DA-41A1-A61F-025A7781C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950F-52C7-4692-B434-94A4711A4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B9D38B-7FD4-4B32-ADF3-4ED5E67A2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2B846D-4027-48C7-BADA-4656AD3E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2F1397-365A-4C23-B615-E69C18BB0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182AAE-47CD-49B5-8952-F8B131EB5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20A3A8-464F-4296-953A-99D35E7F4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A1474F-B6E3-4AAE-A91B-3B8F7AEB3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80FB63-41B9-44CD-AFB2-33A15AD78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675163-5548-4EEB-8354-35F6BC238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D7F3E6-9283-4FFE-8125-78FDBFF4A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4852B5-39D7-439D-A065-4D0B3CB77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0EF3-DDD5-41B0-9B83-E686049F2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2A2616-87DE-49D7-BFFA-A7B4AF218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781097-D738-41FC-BEB5-3A9C62774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66C4D9-9FB0-4449-8DC4-2677CE05D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941260-D595-4BE2-BC29-20E1979D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D5A392-BB30-45B4-BC93-560433FE7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FBBAD6-1AF9-4330-A2ED-807D70A75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93B1B7-81C0-46F5-AE25-BECDB183D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E10619-A4A9-49A8-9735-FDD3456F1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5E8D85-04F8-466B-8E80-960868EFC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A243F6-78F8-4027-94FE-1EA4B8E66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E2B13-16E3-46B0-B64E-9AF1DA25BF5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469FB-5FFB-4502-B303-6366377424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95162-5872-40E3-9495-72CE55D1143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3C31D-9C6D-481A-9901-25FFEE11E7B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3D329-9310-4DF8-A69B-5E94AD11ADE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13D3A-5990-4F18-88C8-9D6DD911F2E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023C1-133C-4560-A0AA-4E10738D9AD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EE9FD-BA7D-4E57-89B6-5448BD0C596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5482E-BBD8-4221-85CF-26A4CAFD28C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AABC0-A6FC-4CA1-8CB6-9F2BCFEF55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B1D79-72F2-4F58-8AF9-B3336A0B70E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F21CE-EEA3-4660-A083-0BF5DD761EE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29A56-8C8B-4CCE-AB4F-984CB171F11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E18F6-5761-4AA9-9F60-82234D166D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72884-A10C-47EE-9E96-66F68938820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6D0EF-E43C-4D83-8BC4-CB90FA3DEF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B3C6D-2130-4DD9-8F5D-2D9800DD64A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0F622-AE5A-428B-BCE6-0ECBDE8BE4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EB57F-5E3E-40A6-BCDF-6FE3BE093C5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4E084-9449-4864-83D5-38AD407E9B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8BBA7-B0DC-4C84-886A-57B03A2C3B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953B3-1FD3-451E-BDB8-A839404E549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833D0-FA0B-4EFA-B818-3B55AC2EEF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21D7E-99D7-4C36-AEEF-6754CCC7CD7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F7624-8E2B-4CA2-8BA8-D222F1382A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2A509-E4C2-4EB3-B10A-FFB41EEE656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A5DF9-59C1-4CC7-A9C8-B73D8F0406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E0A7E-D717-4035-B12C-496FD72956E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FBD38-00B2-42A8-8A00-F6527E91170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07A43-9846-4679-B036-8CD1E9A30FF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22C68-51DE-4FA4-8553-AFA2F1B2FAB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4ABD6-2A4F-435D-B725-9AE045C3911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87425-6A32-4ECD-B0D0-D54DB264B26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19C94-3E67-4371-BA6B-78F13B30040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6398B-EF25-4CDA-BBEC-9EAF9073C7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8C5C6-EB8A-4C40-BDF4-E35AF81D3BE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D2E4F-838F-4B4E-8BD3-A5BBCE9DF7B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33E60-5FFD-42AF-A25B-21334C7A27A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D836E-CD0C-4C70-B640-124736AC3B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E957D-A386-43D7-B0DB-8C4AF895A9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AF884-1958-442E-A09B-3E6B28DC30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14D60-E4CE-4E8A-85AA-33A4F1C19B3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500040" y="3029040"/>
            <a:ext cx="814392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209520" y="271440"/>
            <a:ext cx="8724960" cy="631512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826920" y="3270240"/>
            <a:ext cx="5545440" cy="44784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826920" y="3933720"/>
            <a:ext cx="5545440" cy="44784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4"/>
          <a:stretch/>
        </p:blipFill>
        <p:spPr>
          <a:xfrm>
            <a:off x="826920" y="4581360"/>
            <a:ext cx="5545440" cy="44784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5"/>
          <a:stretch/>
        </p:blipFill>
        <p:spPr>
          <a:xfrm>
            <a:off x="826920" y="5300640"/>
            <a:ext cx="799308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1" name="图片 1" descr=""/>
          <p:cNvPicPr/>
          <p:nvPr/>
        </p:nvPicPr>
        <p:blipFill>
          <a:blip r:embed="rId1"/>
          <a:stretch/>
        </p:blipFill>
        <p:spPr>
          <a:xfrm>
            <a:off x="252360" y="919080"/>
            <a:ext cx="8639280" cy="501984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2"/>
          <a:stretch/>
        </p:blipFill>
        <p:spPr>
          <a:xfrm>
            <a:off x="900000" y="3213000"/>
            <a:ext cx="5400720" cy="44784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3"/>
          <a:stretch/>
        </p:blipFill>
        <p:spPr>
          <a:xfrm>
            <a:off x="900000" y="3933720"/>
            <a:ext cx="5400720" cy="44784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4"/>
          <a:stretch/>
        </p:blipFill>
        <p:spPr>
          <a:xfrm>
            <a:off x="900000" y="4581360"/>
            <a:ext cx="799308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5" name="图片 1" descr=""/>
          <p:cNvPicPr/>
          <p:nvPr/>
        </p:nvPicPr>
        <p:blipFill>
          <a:blip r:embed="rId1"/>
          <a:stretch/>
        </p:blipFill>
        <p:spPr>
          <a:xfrm>
            <a:off x="181080" y="704880"/>
            <a:ext cx="8781840" cy="604836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2"/>
          <a:stretch/>
        </p:blipFill>
        <p:spPr>
          <a:xfrm>
            <a:off x="1332000" y="4724280"/>
            <a:ext cx="5256000" cy="44784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3"/>
          <a:stretch/>
        </p:blipFill>
        <p:spPr>
          <a:xfrm>
            <a:off x="1332000" y="5416560"/>
            <a:ext cx="7488000" cy="12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8" name="图片 1" descr=""/>
          <p:cNvPicPr/>
          <p:nvPr/>
        </p:nvPicPr>
        <p:blipFill>
          <a:blip r:embed="rId1"/>
          <a:stretch/>
        </p:blipFill>
        <p:spPr>
          <a:xfrm>
            <a:off x="523800" y="1990800"/>
            <a:ext cx="8096400" cy="287640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2"/>
          <a:stretch/>
        </p:blipFill>
        <p:spPr>
          <a:xfrm>
            <a:off x="1116000" y="3500280"/>
            <a:ext cx="6264360" cy="44784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3"/>
          <a:stretch/>
        </p:blipFill>
        <p:spPr>
          <a:xfrm>
            <a:off x="1187280" y="4164120"/>
            <a:ext cx="6264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图片 1" descr=""/>
          <p:cNvPicPr/>
          <p:nvPr/>
        </p:nvPicPr>
        <p:blipFill>
          <a:blip r:embed="rId1"/>
          <a:stretch/>
        </p:blipFill>
        <p:spPr>
          <a:xfrm>
            <a:off x="223920" y="852480"/>
            <a:ext cx="8696160" cy="515304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2"/>
          <a:stretch/>
        </p:blipFill>
        <p:spPr>
          <a:xfrm>
            <a:off x="826920" y="3486240"/>
            <a:ext cx="5689800" cy="44748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3"/>
          <a:stretch/>
        </p:blipFill>
        <p:spPr>
          <a:xfrm>
            <a:off x="539640" y="4292640"/>
            <a:ext cx="5689800" cy="44748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4"/>
          <a:stretch/>
        </p:blipFill>
        <p:spPr>
          <a:xfrm>
            <a:off x="684360" y="5041800"/>
            <a:ext cx="56894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图片 1" descr=""/>
          <p:cNvPicPr/>
          <p:nvPr/>
        </p:nvPicPr>
        <p:blipFill>
          <a:blip r:embed="rId1"/>
          <a:stretch/>
        </p:blipFill>
        <p:spPr>
          <a:xfrm>
            <a:off x="171360" y="876240"/>
            <a:ext cx="8801280" cy="568656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2"/>
          <a:stretch/>
        </p:blipFill>
        <p:spPr>
          <a:xfrm>
            <a:off x="1547640" y="4276800"/>
            <a:ext cx="5040360" cy="44748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3"/>
          <a:stretch/>
        </p:blipFill>
        <p:spPr>
          <a:xfrm>
            <a:off x="1476360" y="5084640"/>
            <a:ext cx="5040360" cy="44784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4"/>
          <a:stretch/>
        </p:blipFill>
        <p:spPr>
          <a:xfrm>
            <a:off x="1332000" y="5921280"/>
            <a:ext cx="7200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图片 1" descr=""/>
          <p:cNvPicPr/>
          <p:nvPr/>
        </p:nvPicPr>
        <p:blipFill>
          <a:blip r:embed="rId1"/>
          <a:stretch/>
        </p:blipFill>
        <p:spPr>
          <a:xfrm>
            <a:off x="852480" y="1380960"/>
            <a:ext cx="7439040" cy="40960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2"/>
          <a:stretch/>
        </p:blipFill>
        <p:spPr>
          <a:xfrm>
            <a:off x="1187280" y="2333520"/>
            <a:ext cx="5113440" cy="44784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3"/>
          <a:stretch/>
        </p:blipFill>
        <p:spPr>
          <a:xfrm>
            <a:off x="1187280" y="3141720"/>
            <a:ext cx="5113440" cy="4474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4"/>
          <a:stretch/>
        </p:blipFill>
        <p:spPr>
          <a:xfrm>
            <a:off x="1187280" y="3933720"/>
            <a:ext cx="5113440" cy="44784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5"/>
          <a:stretch/>
        </p:blipFill>
        <p:spPr>
          <a:xfrm>
            <a:off x="1187280" y="4724280"/>
            <a:ext cx="51134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图片 1" descr=""/>
          <p:cNvPicPr/>
          <p:nvPr/>
        </p:nvPicPr>
        <p:blipFill>
          <a:blip r:embed="rId1"/>
          <a:stretch/>
        </p:blipFill>
        <p:spPr>
          <a:xfrm>
            <a:off x="171360" y="895320"/>
            <a:ext cx="8801280" cy="506736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2"/>
          <a:stretch/>
        </p:blipFill>
        <p:spPr>
          <a:xfrm>
            <a:off x="971640" y="3573360"/>
            <a:ext cx="4248000" cy="44784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3"/>
          <a:stretch/>
        </p:blipFill>
        <p:spPr>
          <a:xfrm>
            <a:off x="971640" y="4365720"/>
            <a:ext cx="4248000" cy="44748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4"/>
          <a:stretch/>
        </p:blipFill>
        <p:spPr>
          <a:xfrm>
            <a:off x="826920" y="5214960"/>
            <a:ext cx="74901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9:56:38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